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2F3-FC2C-4452-A63B-4837C151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1DE-D4CF-48BD-8EC4-E4E0755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23D-34A6-4E09-BC91-C70C7EF8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D51-56D7-4AF3-B485-61168E5C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61AF-9F30-43B7-B9E2-B7D1BECF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2006-55C7-4341-9944-9B0F6949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30FA-23C0-4B0F-8B89-99304FC5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FEFB-A385-4A96-AD7B-8A9F944F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1106-4E5A-4A28-B92D-76B77F2B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1944-36C8-45A0-9FB9-89805F03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0FA3-0024-498A-932D-9B358C9E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FFD-95F0-412B-BACF-E74B2183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BB25-0FAA-4035-B8B8-5481E294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0FF1-D29C-4BE4-9BBE-CF5F9851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35F0-0FA0-4996-9C73-DF2B9822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EA42-A3F8-49FA-83DD-20757AA0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C822-8F8C-4FFA-901A-196347C3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81D-AD05-407C-AE1C-4A018AA2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122-E84D-46F8-ADE7-E6588DF0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EA7-D404-42DD-A0F6-931C8EC9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A96-B5D4-4BF7-A88C-A847E0DA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BC8-D0BD-4E2D-B705-F2AC53BA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A99-F685-45B8-8EA1-2B3A915D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4C7-3C4F-46E4-9BA2-CF678161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0A2A-6C06-4C87-BEE8-3C4E855586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30D0-CAF6-48F3-B540-8FBA32E48E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(The Divided Kingdom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6, Lesson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. 49-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ings 22:45,50; 2 Chron.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6520" y="228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re We Left 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762760" y="3124080"/>
            <a:ext cx="228600" cy="1143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0968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wo Jorams: North and South: Son and Son-in-law of Ah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28600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248520"/>
            <a:ext cx="838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 Juda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th of Jehoshaphat -1 Kings 22:45-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horam (or Joram) – 2 Kings 8:16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years of ev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married into Ahab’s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lls his brothers – 2 Chron.21:2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arouses neighboring revo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om revolts – 2 Kgs.8:20-2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bnah revolts – 8:2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00200" y="419112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5410080"/>
            <a:ext cx="1143000" cy="6858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609480"/>
            <a:ext cx="274320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udah h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blems without (Edo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blems within (Libna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e next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2514600"/>
            <a:ext cx="1219320" cy="38088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Proble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horam receives a letter from Elijah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hron.21:11-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asion of the Philistines and Arabians – v.16,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Year Disease &amp; Agonizing Death – 21:18-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adia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lace it here (Waldron &amp; oth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s place it after the Babylonian Cap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it and see which makes better sense to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5:02:10Z</dcterms:created>
  <dc:creator>Terry W. Benton</dc:creator>
  <dc:description/>
  <dc:language>en-US</dc:language>
  <cp:lastModifiedBy>Frank D Vines</cp:lastModifiedBy>
  <dcterms:modified xsi:type="dcterms:W3CDTF">2005-08-09T13:31:42Z</dcterms:modified>
  <cp:revision>3</cp:revision>
  <dc:subject/>
  <dc:title>Till There Was No Remedy (The Divided Kingdom)</dc:title>
</cp:coreProperties>
</file>